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E91-5AB4-4D02-995D-2227E6E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CB7-696F-4D33-8119-F6D40F9B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115-AFA2-497C-A8C2-40119936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6A1-F00D-4FC7-A493-0E4EB0AE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A1D5-7686-4D1B-8851-CF2E374A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CC6-A5FD-4A20-8777-5828BDF6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E3DA-B1B3-4A92-9922-15B1065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1CCB-DAF9-4591-A94E-8BDB713F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B712-59E7-40EE-97DE-1C1F5159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2548-FE2E-4049-ABE5-FE41B1A1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DD28-C324-4EDB-B91A-26D71C9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699-4D3B-49ED-988C-7288A8D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1B89-82C5-4E47-970C-BBA2B9E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2A8B-F6B5-437B-B696-DB1E389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F07E-649F-414F-8673-113CDBE3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BC6F-A728-4991-8E25-EE012027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B6E7-217D-4971-A493-1E779EB1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9600-B667-4848-8BEC-12A17234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DA02-E8B0-4E99-8146-0CE444E9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B4EA-9C8A-4BF4-BF3A-204CE4E4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22DB-3E91-4513-BD4F-218A0DB7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3104-D73D-4417-BF8D-77E7F22C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B75-CBA0-4325-8B25-08FF6223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3EC2-321D-41CD-8419-93962D8B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0927-FDC9-4F84-99AC-976C3DF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C8A3-FF50-481C-A372-0E7D34E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3B61-DC5E-4025-A9E7-9ACF8916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C121-21BD-4109-8785-68FFB486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87BB-112B-4424-A929-513859AF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808E-A26E-4800-B790-F5AE3E51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801-8EE9-43DA-AB37-18B1092A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172-CAC5-488A-BC9C-7EE75720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09A-6D37-4B91-B4D0-B08C382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04B-1A6C-4089-8CD5-BB37DBBE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E4F-6A60-4F70-8376-918C3C7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DC6-B337-443C-B36C-76E51689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1925-CCE0-418D-B37C-F4D3FADDC85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A8A4-33B7-459D-9D8F-29CFB64271A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ABE-791F-44D6-810E-584A36E3313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5B68-DD70-407F-B700-F887DE6C225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3D16-53D3-40B4-85D9-B997BDE9EDB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CF16-E854-4DE6-90B3-E16B37A75F1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rtnership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57200" y="1523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in which two or more persons combine their skills and assets and are the ow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ember of the partnership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247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mni Im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457200" y="218124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that purchases and sells g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l Merchandising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that purchases and sells goods to the final consu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lesale Merchandising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that buys and sells goods to retai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ods that are purchase by the business that will be s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23800" y="99072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Import is a Retail Merchandising Business that is organized as a partnership and purchases and sells novelty gift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ANDED JOURNA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1" name="Picture 3" descr="D:\C21 PowerPoint\Multi_Journal\art for blue\Ch10\Ch10-01a.jpg"/>
          <p:cNvPicPr/>
          <p:nvPr/>
        </p:nvPicPr>
        <p:blipFill>
          <a:blip r:embed="rId2"/>
          <a:srcRect l="0" t="0" r="0" b="25181"/>
          <a:stretch/>
        </p:blipFill>
        <p:spPr>
          <a:xfrm>
            <a:off x="228600" y="1143000"/>
            <a:ext cx="864720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1, page 2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57200" y="4183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has many non-cash and other frequent transactions.  Therefore, they have added a number of special columns to help save time, space, and to create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4240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urchasing Merchandi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457200" y="129528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 of Merchand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money that a business pays for its goods to s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added to the cost of merchandise that creates the selling pric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o make a profit, the selling price must be greater than its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from which assets or other supplies for the business are purchas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7200" y="5638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rchases are a cost account and reduces capital which creates a normal debit bal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7c9f"/>
                </a:solidFill>
                <a:latin typeface="News Gothic MT"/>
              </a:rPr>
              <a:t>PURCHASING MERCHANDISE FOR CASH</a:t>
            </a:r>
            <a:endParaRPr b="0" lang="en-US" sz="3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57200" y="792000"/>
            <a:ext cx="8001000" cy="703800"/>
          </a:xfrm>
          <a:prstGeom prst="rect">
            <a:avLst/>
          </a:prstGeom>
          <a:gradFill rotWithShape="0">
            <a:gsLst>
              <a:gs pos="0">
                <a:srgbClr val="7030a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1. Purchased merchandise for cash, $575.00 Check No. 2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s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26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144" name="Group 25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670824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1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2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24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149" name="Text Box 14"/>
              <p:cNvSpPr/>
              <p:nvPr/>
            </p:nvSpPr>
            <p:spPr>
              <a:xfrm>
                <a:off x="6435000" y="152388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rch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15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6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56164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1"/>
          <p:cNvSpPr/>
          <p:nvPr/>
        </p:nvSpPr>
        <p:spPr>
          <a:xfrm flipV="1">
            <a:off x="7679520" y="487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7495560" y="4626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1, page 2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8"/>
          <p:cNvGrpSpPr/>
          <p:nvPr/>
        </p:nvGrpSpPr>
        <p:grpSpPr>
          <a:xfrm>
            <a:off x="457200" y="1143000"/>
            <a:ext cx="8053560" cy="1417680"/>
            <a:chOff x="457200" y="1143000"/>
            <a:chExt cx="8053560" cy="1417680"/>
          </a:xfrm>
        </p:grpSpPr>
        <p:pic>
          <p:nvPicPr>
            <p:cNvPr id="160" name="Picture 3" descr="D:\C21 PowerPoint\Multi_Journal\art for blue\Ch10\Ch10-01b.jpg"/>
            <p:cNvPicPr/>
            <p:nvPr/>
          </p:nvPicPr>
          <p:blipFill>
            <a:blip r:embed="rId2"/>
            <a:stretch/>
          </p:blipFill>
          <p:spPr>
            <a:xfrm>
              <a:off x="457200" y="1143000"/>
              <a:ext cx="805356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6"/>
            <p:cNvSpPr/>
            <p:nvPr/>
          </p:nvSpPr>
          <p:spPr>
            <a:xfrm>
              <a:off x="1214280" y="190512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edf4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4795560" y="190512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edf4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12"/>
          <p:cNvSpPr/>
          <p:nvPr/>
        </p:nvSpPr>
        <p:spPr>
          <a:xfrm>
            <a:off x="209520" y="3718080"/>
            <a:ext cx="77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in the Account Title column to show that no account title i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4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c7c9f"/>
                </a:solidFill>
                <a:latin typeface="News Gothic MT"/>
              </a:rPr>
              <a:t>PURCHASING MERCHANDISE FOR CASH</a:t>
            </a:r>
            <a:endParaRPr b="0" lang="en-US" sz="3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6324480" y="2209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228600" y="1523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809880" y="1676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5105520" y="2209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676520" y="21337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09520" y="43783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0952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09520" y="4741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 to show that amounts are not to be posted individu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10960" y="540864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10960" y="57736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1, page 2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8:32:51Z</dcterms:created>
  <dc:creator>Mary Colleen McLaughlin</dc:creator>
  <dc:description/>
  <dc:language>en-US</dc:language>
  <cp:lastModifiedBy>David Combs</cp:lastModifiedBy>
  <cp:lastPrinted>1999-04-07T04:49:18Z</cp:lastPrinted>
  <dcterms:modified xsi:type="dcterms:W3CDTF">2013-01-04T17:36:49Z</dcterms:modified>
  <cp:revision>18</cp:revision>
  <dc:subject/>
  <dc:title>ADJUSTING ENTRY FOR SUPPLIES</dc:title>
</cp:coreProperties>
</file>